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gif" ContentType="image/gif"/>
  <Override PartName="/ppt/media/image7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A0395-AC46-4F86-8F42-89840F93EC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u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lamentality Activit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tli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u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mpl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crapboo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bQu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3C56C-A181-4AD6-98DE-0A9C76DC8231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62E3B-918B-4536-99BC-EF7F0F9C4616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14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TMI (Where do I start?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514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Google: Chi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514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Thinkfinity: China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514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7F81B-A0F8-4B95-B141-240C1CCA42A8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#2 Grade Level Appropriat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nd some good websites for 3</a:t>
            </a:r>
            <a:r>
              <a:rPr b="0" lang="en-US" sz="1200" spc="-1" strike="noStrike" baseline="30000">
                <a:solidFill>
                  <a:srgbClr val="000000"/>
                </a:solidFill>
                <a:latin typeface="Calibri"/>
              </a:rPr>
              <a:t>rd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graders learning alegr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kinds of websites are bes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DC442-CE15-42E7-8CE9-B20A2EB4DB6E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can teachers use good search skills to reduce the amount of time wasted by students working on internet related problem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34538-A764-485B-9700-9E481803E0AB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27D23-9C6F-46B7-938E-E74B034D8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874E8-F8E3-43E3-A8C2-BAA200704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19EBA-5BA7-412D-8F7A-98BA56D83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0DBFF-A975-4CDA-A850-EE507A476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AF1488-E8CC-48C0-A21F-D058448A5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3D4682-BB2A-4EFE-90E5-65A38AF46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CDF2F7-FD25-4145-AF45-FD2D09263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8595E2-D631-4DD1-8F53-F36A7D1DD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1EE19C-9096-4438-8D6A-4EA9AA474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7B7755-9242-4072-966B-B82FC709F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3911F6-A8D7-4074-8025-992E3B9CC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4BE40-7E09-44D5-A495-62583D546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763DC2-7D47-40E4-BFEC-63696C760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1B5D9D-AB3F-4536-B446-D4E75EE09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1A3542-97C1-440E-AB6D-D633C2BDA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21D958-0F78-454C-ABF4-D9FD1AB2E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5749F7-7459-4F05-A3C3-46AE7B40A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390CC-B2E5-4691-AEC1-873B66D18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E1C3D-22AD-403F-92C2-C28AA1BA0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E46D9-7030-4C56-BBE9-B2CF23530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F7A5B-FC08-4B72-A523-F10F12D5B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6AA7C-E1AB-44CD-B2A0-A7480335D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7BF23-D323-460D-A948-AA53BA1EA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4765A-BB55-481A-8557-E01731A35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2C71F-E77A-45B8-B19E-8EF0D5F171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F6409-E599-443C-AEEB-422C49A6C8D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nets-implementation.iste.wikispaces.net/Videos+of+NETS&#8226;S+in+Action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Using the Internet in the Classroom: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Awesome Authentic Assessment vs. Tragic Time-Wast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reating Cool Internet Based Activitie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7" name="Picture 6" descr=""/>
          <p:cNvPicPr/>
          <p:nvPr/>
        </p:nvPicPr>
        <p:blipFill>
          <a:blip r:embed="rId1"/>
          <a:srcRect l="12501" t="20889" r="13280" b="7951"/>
          <a:stretch/>
        </p:blipFill>
        <p:spPr>
          <a:xfrm>
            <a:off x="1219320" y="1828800"/>
            <a:ext cx="723888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Best Practices and the Interne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et the standards drive the bu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14440" indent="-5144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hare an idea from your unit plan review for using technolog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4" name="Picture 3" descr="C:\Documents and Settings\afante01\My Documents\My Pictures\Microsoft Clip Organizer\j0236335.gif"/>
          <p:cNvPicPr/>
          <p:nvPr/>
        </p:nvPicPr>
        <p:blipFill>
          <a:blip r:embed="rId1"/>
          <a:stretch/>
        </p:blipFill>
        <p:spPr>
          <a:xfrm>
            <a:off x="3733920" y="3733920"/>
            <a:ext cx="2666880" cy="250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est Practices vs. Technology Showcas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nk of a curricular example where the following technologies would not be appropriate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logg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vata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iki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Best Practices and the Interne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4572000"/>
            <a:ext cx="86868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) Create an “Emotional” connec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60960" indent="-25416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ersonalization (Share Example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60960" indent="-25416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ntertainment (Share something fun you do on-line…how could this be a lesson??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60960" indent="-25416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isually Driven  (Adds learning style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Picture 6" descr="http://ihasahotdog.wordpress.com/files/2009/08/funny-dog-pictures-hear-awesome.jpg"/>
          <p:cNvPicPr/>
          <p:nvPr/>
        </p:nvPicPr>
        <p:blipFill>
          <a:blip r:embed="rId1"/>
          <a:stretch/>
        </p:blipFill>
        <p:spPr>
          <a:xfrm>
            <a:off x="2057400" y="1371600"/>
            <a:ext cx="419112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Best Practices and the Interne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) Real world connec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oject-based learn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uthentic assess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00"/>
                </a:solidFill>
                <a:uFillTx/>
                <a:latin typeface="Tahoma"/>
                <a:hlinkClick r:id="rId1"/>
              </a:rPr>
              <a:t>(Math SME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(Frog and Toad Survey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Picture 2" descr="C:\Documents and Settings\afante01\Local Settings\Temporary Internet Files\Content.IE5\IPW9A5CV\MCj04398230000[1].png"/>
          <p:cNvPicPr/>
          <p:nvPr/>
        </p:nvPicPr>
        <p:blipFill>
          <a:blip r:embed="rId2"/>
          <a:stretch/>
        </p:blipFill>
        <p:spPr>
          <a:xfrm>
            <a:off x="4800600" y="205740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Best Practices and the Interne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4) “Doable” assignments – Make a sample!!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Picture 2" descr="C:\Documents and Settings\afante01\Local Settings\Temporary Internet Files\Content.IE5\I72L4Z0J\MPj04386750000[1].jpg"/>
          <p:cNvPicPr/>
          <p:nvPr/>
        </p:nvPicPr>
        <p:blipFill>
          <a:blip r:embed="rId1"/>
          <a:stretch/>
        </p:blipFill>
        <p:spPr>
          <a:xfrm>
            <a:off x="3352680" y="2590920"/>
            <a:ext cx="2822760" cy="38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oor Practice and the Interne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Problem #1: TM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8" name="Picture 8" descr="http://sidoxia.files.wordpress.com/2010/01/information-overload.jpg"/>
          <p:cNvPicPr/>
          <p:nvPr/>
        </p:nvPicPr>
        <p:blipFill>
          <a:blip r:embed="rId1"/>
          <a:stretch/>
        </p:blipFill>
        <p:spPr>
          <a:xfrm>
            <a:off x="1371600" y="2600280"/>
            <a:ext cx="6400800" cy="42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oor Practice and the Interne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6840" y="190512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blem #2 Grade Level Appropriat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Picture 5" descr="http://tutorsasap.com/wp-content/uploads/2008/09/algebra_tutor_baltimore.jpg"/>
          <p:cNvPicPr/>
          <p:nvPr/>
        </p:nvPicPr>
        <p:blipFill>
          <a:blip r:embed="rId1"/>
          <a:stretch/>
        </p:blipFill>
        <p:spPr>
          <a:xfrm>
            <a:off x="2590920" y="2590920"/>
            <a:ext cx="38098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oor Practice and the Interne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6840" y="12952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blem #3 Poor Prep Wor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Picture 9" descr="http://www.crdailystar.com/wp-content/uploads/2010/04/home-painting.jpg"/>
          <p:cNvPicPr/>
          <p:nvPr/>
        </p:nvPicPr>
        <p:blipFill>
          <a:blip r:embed="rId1"/>
          <a:stretch/>
        </p:blipFill>
        <p:spPr>
          <a:xfrm>
            <a:off x="990720" y="1828800"/>
            <a:ext cx="71182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4T02:38:08Z</dcterms:created>
  <dc:creator>JDavid</dc:creator>
  <dc:description/>
  <dc:language>en-US</dc:language>
  <cp:lastModifiedBy>BPS</cp:lastModifiedBy>
  <dcterms:modified xsi:type="dcterms:W3CDTF">2012-05-03T18:41:20Z</dcterms:modified>
  <cp:revision>27</cp:revision>
  <dc:subject/>
  <dc:title>Using the Internet in the Classroom: </dc:title>
</cp:coreProperties>
</file>