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2A92-42F3-4A81-97A2-C9420C0E8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amentality Activ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ap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17B0-3965-48B6-8F3D-CAB9DD9FF5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09A2-FC2D-4265-BBE0-BD76A87B8EE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MI (Where do I start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oogle: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inkfinity: Chi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84F0-47FB-4802-B43A-6B52675C03B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#2 Grade Level Appropri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some good websites for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aders learning aleg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websites are b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040A-D9D2-4419-92B0-510D363E3B6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teachers use good search skills to reduce the amount of time wasted by students working on internet related proble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F8AE-D1ED-444B-926E-3CF63A888BC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EA0-B250-4698-A7D3-50DA298E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496E-5F23-4CA3-9140-AB338E41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9E21-2F9B-42AA-A8B0-76119404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8AE9-A48C-469A-82EB-D2D55E38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F0F70-9A78-46FD-96D7-0C3D356F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5715F-25CC-42D7-9AD7-BB18FA56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0C396-8DFB-41DD-AB71-06CB9257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84F23-4E5E-4B5F-B0D8-AC41FD41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DEC01-0407-459E-9B0E-C83203D9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222C8-FF4D-4014-AC2E-E4A0419B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060DF-E629-4793-BFAF-6C4CB596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8465-92C8-4A30-9297-47B0CCD2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B7A1C-B51C-47E8-A92A-15A5D849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E5A09-1128-4F46-9FD6-ACE8DACD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65613-7236-437B-9865-4F20BE4B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5D3FD-664B-4A47-A70A-2E2E6C20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BB002-C075-4DE8-88F8-EB2F7F04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243-389A-4A11-A4BF-C26C2B8A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D92-E8F2-4ED5-8478-BB2A6855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251-6A93-4560-8624-B1F97648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2CAD-2F7C-4C2F-86D7-DE03BBFB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D545-5C21-4F91-B5E1-82F55449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DEBA-7C71-448D-AEA7-D68D604B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2E2-7DDD-4724-A6CC-1FF12041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6AA6-3ECF-4751-9F71-06EE2131D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34F4-C95B-457B-AC03-C3CBF18A86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ts-implementation.iste.wikispaces.net/Videos+of+NETS&#8226;S+in+Actio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sing the Internet in the Classroom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wesome Authentic Assessment vs. Tragic Time-Wa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reating Cool Internet Based Activ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rcRect l="12501" t="20889" r="13280" b="7951"/>
          <a:stretch/>
        </p:blipFill>
        <p:spPr>
          <a:xfrm>
            <a:off x="1219320" y="18288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the standards drive the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an idea from your unit plan review for using technolo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3" descr="C:\Documents and Settings\afante01\My Documents\My Pictures\Microsoft Clip Organizer\j0236335.gif"/>
          <p:cNvPicPr/>
          <p:nvPr/>
        </p:nvPicPr>
        <p:blipFill>
          <a:blip r:embed="rId1"/>
          <a:stretch/>
        </p:blipFill>
        <p:spPr>
          <a:xfrm>
            <a:off x="3733920" y="3733920"/>
            <a:ext cx="266688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st Practices vs. Technology Showca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of a curricular example where the following technologies would not be appropriat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g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t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k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45720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Create an “Emotional” conn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ization (Share Examp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ertainment (Share something fun you do on-line…how could this be a lesson?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ly Driven  (Adds learning sty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6" descr="http://ihasahotdog.wordpress.com/files/2009/08/funny-dog-pictures-hear-awesome.jpg"/>
          <p:cNvPicPr/>
          <p:nvPr/>
        </p:nvPicPr>
        <p:blipFill>
          <a:blip r:embed="rId1"/>
          <a:stretch/>
        </p:blipFill>
        <p:spPr>
          <a:xfrm>
            <a:off x="2057400" y="13716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Real world conn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-based lear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hentic asse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(Math SM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Frog and Toad Surve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" descr="C:\Documents and Settings\afante01\Local Settings\Temporary Internet Files\Content.IE5\IPW9A5CV\MCj04398230000[1].png"/>
          <p:cNvPicPr/>
          <p:nvPr/>
        </p:nvPicPr>
        <p:blipFill>
          <a:blip r:embed="rId2"/>
          <a:stretch/>
        </p:blipFill>
        <p:spPr>
          <a:xfrm>
            <a:off x="48006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“Doable” assignments – Make a sample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C:\Documents and Settings\afante01\Local Settings\Temporary Internet Files\Content.IE5\I72L4Z0J\MPj04386750000[1].jpg"/>
          <p:cNvPicPr/>
          <p:nvPr/>
        </p:nvPicPr>
        <p:blipFill>
          <a:blip r:embed="rId1"/>
          <a:stretch/>
        </p:blipFill>
        <p:spPr>
          <a:xfrm>
            <a:off x="3352680" y="2590920"/>
            <a:ext cx="28227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blem #1: T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8" descr="http://sidoxia.files.wordpress.com/2010/01/information-overload.jpg"/>
          <p:cNvPicPr/>
          <p:nvPr/>
        </p:nvPicPr>
        <p:blipFill>
          <a:blip r:embed="rId1"/>
          <a:stretch/>
        </p:blipFill>
        <p:spPr>
          <a:xfrm>
            <a:off x="1371600" y="2600280"/>
            <a:ext cx="64008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905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#2 Grade Level Appropria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http://tutorsasap.com/wp-content/uploads/2008/09/algebra_tutor_baltimore.jpg"/>
          <p:cNvPicPr/>
          <p:nvPr/>
        </p:nvPicPr>
        <p:blipFill>
          <a:blip r:embed="rId1"/>
          <a:stretch/>
        </p:blipFill>
        <p:spPr>
          <a:xfrm>
            <a:off x="2590920" y="2590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295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#3 Poor Prep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9" descr="http://www.crdailystar.com/wp-content/uploads/2010/04/home-painting.jpg"/>
          <p:cNvPicPr/>
          <p:nvPr/>
        </p:nvPicPr>
        <p:blipFill>
          <a:blip r:embed="rId1"/>
          <a:stretch/>
        </p:blipFill>
        <p:spPr>
          <a:xfrm>
            <a:off x="990720" y="1828800"/>
            <a:ext cx="7118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02:38:08Z</dcterms:created>
  <dc:creator>JDavid</dc:creator>
  <dc:description/>
  <dc:language>en-US</dc:language>
  <cp:lastModifiedBy>BPS</cp:lastModifiedBy>
  <dcterms:modified xsi:type="dcterms:W3CDTF">2012-05-03T18:41:20Z</dcterms:modified>
  <cp:revision>27</cp:revision>
  <dc:subject/>
  <dc:title>Using the Internet in the Classroom: </dc:title>
</cp:coreProperties>
</file>