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2998-59F9-4D89-A2DA-2E735F8CD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amentality Activ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ap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48B6-A732-429B-ABE4-31333273270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D6B5-BD06-47AF-B0C1-263C24392F5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MI (Where do I start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oogle: 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inkfinity: Chi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7621-F859-4662-B961-7EC0385BB67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#2 Grade Level Appropria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some good websites for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raders learning aleg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s of websites are b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48E9-982B-452F-97C2-CCB3C02CB08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teachers use good search skills to reduce the amount of time wasted by students working on internet related problem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8558-EE2C-4867-ABB2-024801DD35D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4404-A58F-4217-980E-9D470CA2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B192-976D-479B-869D-8740B125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F499-158C-4CC2-AA46-3D31116B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6392-D0FE-4B20-A89B-CDDF4F23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F672B-98CE-4CAB-9375-0215D884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8FD59-A225-4245-B83A-C9DAAFFC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DB15A-CFB2-49EA-A81B-C0B9543C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CB337-C5C7-49F2-81FB-BA417B21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1B008-105E-468C-82EC-1EEC6FE2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3F0DC-9069-47E0-8ED0-736516F2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537B5-AF4F-4B06-9BDF-96B9B3AC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E53E-F59B-4B5A-988F-9B900A84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E448C-67F7-4761-81F7-129C6713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5FB0B-A883-46CA-B9AD-2C703A42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8D17C-3629-487E-9F78-6570CC18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28FEA-ABFF-4346-BA3A-5BE1DFDE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5D17A-66E4-4516-8713-7DD1B4A3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5F32-6A75-4885-A79A-119B6FA4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E1B2-2622-47F7-95B6-86D7A7EA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046A-06E9-4727-B1EE-F3ABF434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C8F7-AE6D-4701-A886-82DE5351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EE36-F10A-4DEE-BEF6-E848DC4E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7945-FFAB-4528-8751-A09C702C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07C4-C2C0-459B-AF9D-8CA8FBA6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3A40-641B-4C6E-8215-C94439E6D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DDD4-8CD7-406A-924A-E26EDC7F9A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ets-implementation.iste.wikispaces.net/Videos+of+NETS&#8226;S+in+Action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sing the Internet in the Classroom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Awesome Authentic Assessment vs. Tragic Time-Wa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reating Cool Internet Based Activit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rcRect l="12501" t="20889" r="13280" b="7951"/>
          <a:stretch/>
        </p:blipFill>
        <p:spPr>
          <a:xfrm>
            <a:off x="1219320" y="18288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ractices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the standards drive the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 an idea from your unit plan review for using technolog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3" descr="C:\Documents and Settings\afante01\My Documents\My Pictures\Microsoft Clip Organizer\j0236335.gif"/>
          <p:cNvPicPr/>
          <p:nvPr/>
        </p:nvPicPr>
        <p:blipFill>
          <a:blip r:embed="rId1"/>
          <a:stretch/>
        </p:blipFill>
        <p:spPr>
          <a:xfrm>
            <a:off x="3733920" y="3733920"/>
            <a:ext cx="266688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st Practices vs. Technology Showca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 of a curricular example where the following technologies would not be appropriat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gg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t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k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ractices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45720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Create an “Emotional” conn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ization (Share Examp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ertainment (Share something fun you do on-line…how could this be a lesson?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ly Driven  (Adds learning sty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6" descr="http://ihasahotdog.wordpress.com/files/2009/08/funny-dog-pictures-hear-awesome.jpg"/>
          <p:cNvPicPr/>
          <p:nvPr/>
        </p:nvPicPr>
        <p:blipFill>
          <a:blip r:embed="rId1"/>
          <a:stretch/>
        </p:blipFill>
        <p:spPr>
          <a:xfrm>
            <a:off x="2057400" y="13716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ractices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Real world conn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ject-based lear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hentic assess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(Math SM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Frog and Toad Surve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2" descr="C:\Documents and Settings\afante01\Local Settings\Temporary Internet Files\Content.IE5\IPW9A5CV\MCj04398230000[1].png"/>
          <p:cNvPicPr/>
          <p:nvPr/>
        </p:nvPicPr>
        <p:blipFill>
          <a:blip r:embed="rId2"/>
          <a:stretch/>
        </p:blipFill>
        <p:spPr>
          <a:xfrm>
            <a:off x="4800600" y="20574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ractices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) “Doable” assignments – Make a sample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2" descr="C:\Documents and Settings\afante01\Local Settings\Temporary Internet Files\Content.IE5\I72L4Z0J\MPj04386750000[1].jpg"/>
          <p:cNvPicPr/>
          <p:nvPr/>
        </p:nvPicPr>
        <p:blipFill>
          <a:blip r:embed="rId1"/>
          <a:stretch/>
        </p:blipFill>
        <p:spPr>
          <a:xfrm>
            <a:off x="3352680" y="2590920"/>
            <a:ext cx="28227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or Practice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blem #1: T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8" descr="http://sidoxia.files.wordpress.com/2010/01/information-overload.jpg"/>
          <p:cNvPicPr/>
          <p:nvPr/>
        </p:nvPicPr>
        <p:blipFill>
          <a:blip r:embed="rId1"/>
          <a:stretch/>
        </p:blipFill>
        <p:spPr>
          <a:xfrm>
            <a:off x="1371600" y="2600280"/>
            <a:ext cx="64008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or Practice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905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 #2 Grade Level Appropria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http://tutorsasap.com/wp-content/uploads/2008/09/algebra_tutor_baltimore.jpg"/>
          <p:cNvPicPr/>
          <p:nvPr/>
        </p:nvPicPr>
        <p:blipFill>
          <a:blip r:embed="rId1"/>
          <a:stretch/>
        </p:blipFill>
        <p:spPr>
          <a:xfrm>
            <a:off x="2590920" y="25909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or Practice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295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 #3 Poor Prep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9" descr="http://www.crdailystar.com/wp-content/uploads/2010/04/home-painting.jpg"/>
          <p:cNvPicPr/>
          <p:nvPr/>
        </p:nvPicPr>
        <p:blipFill>
          <a:blip r:embed="rId1"/>
          <a:stretch/>
        </p:blipFill>
        <p:spPr>
          <a:xfrm>
            <a:off x="990720" y="1828800"/>
            <a:ext cx="7118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02:38:08Z</dcterms:created>
  <dc:creator>JDavid</dc:creator>
  <dc:description/>
  <dc:language>en-US</dc:language>
  <cp:lastModifiedBy>BPS</cp:lastModifiedBy>
  <dcterms:modified xsi:type="dcterms:W3CDTF">2012-05-03T18:41:20Z</dcterms:modified>
  <cp:revision>27</cp:revision>
  <dc:subject/>
  <dc:title>Using the Internet in the Classroom: </dc:title>
</cp:coreProperties>
</file>