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F81A-9EDB-4CE8-9F62-0B8D0B4A8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amentality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p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D8A7-3660-4FB5-9AF0-F2643090D0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46D3-D54E-48A8-807F-4E8B0DCEB6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MI (Where do I start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ogle: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nkfinity: Chi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325-7C8C-40AE-BC73-583220999B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#2 Grade Level Appropri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some good websites for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ders learning aleg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websites are b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12F7-8FBF-4F83-B8E0-F70D143625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eachers use good search skills to reduce the amount of time wasted by students working on internet related proble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F2B8-EF51-4160-822E-B42E931EAC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39C-0005-4B80-BD99-C1E82A9E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078-7462-4D5E-B922-FF5B93F0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891-A77C-480D-AC91-BCBBB8BE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E86-AD6A-49CE-9130-7A6DB914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D8C70-43CA-4AAA-B1E3-CBFC2526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DF5CD-DE43-4A23-811F-9FECD656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464C3-2DEB-48E9-812E-141E45D1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985CE-96DE-412E-9726-C3E01F82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9DF74-E685-4BAE-8382-4B0821BA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C92E5-9768-4C1D-BD2C-032CA66B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EA1C7-FFF1-429F-B5EA-45966B58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77B-B685-48EF-A5B8-DBCEB1E9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B08B2-253D-45C3-9C38-D640F0B8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32CF5-8601-4FDF-BD22-44DAAC19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7A16F-C83F-4B4D-B5AE-E4D38ED9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CD451-97E6-4D7A-9812-88E239EC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1E2E9-00EE-4994-BFFA-05FC153F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8E7-FA47-4622-A208-A75C5BF0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FCA-2099-4B60-B4B3-51CB60B2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FE5-EDF3-4347-B385-4227BB34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61C-1387-4E0F-A69F-E4069FC4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D23-5E10-4913-A3BF-F166E367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99A-0752-4520-9C43-80ED8045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B2F-E7E5-4ACB-AC4B-FB77805C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6233-6CFD-422C-A475-E6268E03A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9AC6-04B7-4626-85FA-6E5354B7C6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ts-implementation.iste.wikispaces.net/Videos+of+NETS&#8226;S+in+Actio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ing the Internet in the Classroom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wesome Authentic Assessment vs. Tragic Time-Wa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eating Cool Internet Based Activ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rcRect l="12501" t="20889" r="13280" b="7951"/>
          <a:stretch/>
        </p:blipFill>
        <p:spPr>
          <a:xfrm>
            <a:off x="1219320" y="18288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standards drive the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an idea from your unit plan review for using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C:\Documents and Settings\afante01\My Documents\My Pictures\Microsoft Clip Organizer\j0236335.gif"/>
          <p:cNvPicPr/>
          <p:nvPr/>
        </p:nvPicPr>
        <p:blipFill>
          <a:blip r:embed="rId1"/>
          <a:stretch/>
        </p:blipFill>
        <p:spPr>
          <a:xfrm>
            <a:off x="3733920" y="3733920"/>
            <a:ext cx="2666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st Practices vs. Technology Showc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a curricular example where the following technologies would not be appropri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g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t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45720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Create an “Emotional”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zation (Share Examp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tainment (Share something fun you do on-line…how could this be a lesson?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ly Driven  (Adds learning sty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http://ihasahotdog.wordpress.com/files/2009/08/funny-dog-pictures-hear-awesome.jpg"/>
          <p:cNvPicPr/>
          <p:nvPr/>
        </p:nvPicPr>
        <p:blipFill>
          <a:blip r:embed="rId1"/>
          <a:stretch/>
        </p:blipFill>
        <p:spPr>
          <a:xfrm>
            <a:off x="2057400" y="13716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Real world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-based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entic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(Math SM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Frog and Toad Surve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C:\Documents and Settings\afante01\Local Settings\Temporary Internet Files\Content.IE5\IPW9A5CV\MCj04398230000[1].png"/>
          <p:cNvPicPr/>
          <p:nvPr/>
        </p:nvPicPr>
        <p:blipFill>
          <a:blip r:embed="rId2"/>
          <a:stretch/>
        </p:blipFill>
        <p:spPr>
          <a:xfrm>
            <a:off x="48006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“Doable” assignments – Make a sample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C:\Documents and Settings\afante01\Local Settings\Temporary Internet Files\Content.IE5\I72L4Z0J\MPj04386750000[1].jpg"/>
          <p:cNvPicPr/>
          <p:nvPr/>
        </p:nvPicPr>
        <p:blipFill>
          <a:blip r:embed="rId1"/>
          <a:stretch/>
        </p:blipFill>
        <p:spPr>
          <a:xfrm>
            <a:off x="3352680" y="2590920"/>
            <a:ext cx="2822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blem #1: T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http://sidoxia.files.wordpress.com/2010/01/information-overload.jpg"/>
          <p:cNvPicPr/>
          <p:nvPr/>
        </p:nvPicPr>
        <p:blipFill>
          <a:blip r:embed="rId1"/>
          <a:stretch/>
        </p:blipFill>
        <p:spPr>
          <a:xfrm>
            <a:off x="1371600" y="2600280"/>
            <a:ext cx="64008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2 Grade Level Appropri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http://tutorsasap.com/wp-content/uploads/2008/09/algebra_tutor_baltimore.jpg"/>
          <p:cNvPicPr/>
          <p:nvPr/>
        </p:nvPicPr>
        <p:blipFill>
          <a:blip r:embed="rId1"/>
          <a:stretch/>
        </p:blipFill>
        <p:spPr>
          <a:xfrm>
            <a:off x="25909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3 Poor Prep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http://www.crdailystar.com/wp-content/uploads/2010/04/home-painting.jpg"/>
          <p:cNvPicPr/>
          <p:nvPr/>
        </p:nvPicPr>
        <p:blipFill>
          <a:blip r:embed="rId1"/>
          <a:stretch/>
        </p:blipFill>
        <p:spPr>
          <a:xfrm>
            <a:off x="990720" y="1828800"/>
            <a:ext cx="7118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2:38:08Z</dcterms:created>
  <dc:creator>JDavid</dc:creator>
  <dc:description/>
  <dc:language>en-US</dc:language>
  <cp:lastModifiedBy>BPS</cp:lastModifiedBy>
  <dcterms:modified xsi:type="dcterms:W3CDTF">2012-05-03T18:41:20Z</dcterms:modified>
  <cp:revision>27</cp:revision>
  <dc:subject/>
  <dc:title>Using the Internet in the Classroom: </dc:title>
</cp:coreProperties>
</file>