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007B-2948-416C-AAF3-BA65C48F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F189-EFB7-4086-98A3-C21678C4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E0C1-AB18-4CF9-BC6E-43C0E11F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DDFE-3ABE-418E-A085-D40AE2FC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EDAF-8F0A-4FA4-9CA1-FE9B6C9F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B59C-D7C3-4646-ABA8-8CFCFC8C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9B87-9BE2-4B90-AC83-69193E4A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FF5-2299-4250-9D78-8ABBC731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0FC-E854-4BEE-8469-11FE52E3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5D27-B983-44ED-82E1-D3169545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500A-96E2-4DB0-A652-02CC33ED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AD8F-812F-40AD-A18F-16E1692C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7F44-E1D3-4A00-A65E-89B9C1AF3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4496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 what students are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When given a stick, be able to beat a dead ho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t from course description –which tells what a course is abou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Review the many instructional media resources that are available to classroom teac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s the condition under which the performance is expected to 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Using PowerPoint softwa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the aid of lecture not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chart of the Periodic Tab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 calculato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ly use conditions when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expected to use something special when perform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A manual, a ruler, a tool, a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prohibited from using something when complet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calculator, notes,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have to perform the task under special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time restraints, in front of an audience, in a cockp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a list of significant political figures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Given a list of significant political figur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on (Evalu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cribes the level of competence that must be reach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Be able to correctly solve 20 out of 30 multiplication problems in a five minute time fr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mon Criter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d (within a time fra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uracy (how correct?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y ( instructor determi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 Tri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, I want you to figure out if this person has achieved __________, Look for this…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other key question to as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well does the learner have to perform to achieve the object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ares students to meet the needs of all learners in the classroom, including those with special needs and the exceptional learn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 a curriculum which will meet most of the instructional needs represented in the classro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identify 10 major star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</a:t>
            </a: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identify 10 major sta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parts to an Instructional Obj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iteria (Assessme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525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s what the learner is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sual – You must be able to observe a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Dance, interview, sing,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overt behavior is expect (identify) use a visible behavior when writing the objective (circ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 statement doesn’t have a visible performance it is NOT an obj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1676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verbs describe something you do NOT an internal state of be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) Draw a picture vs. Develop a positive attitude towards classical mu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20:57:57Z</dcterms:created>
  <dc:creator>CCS Staff</dc:creator>
  <dc:description/>
  <dc:language>en-US</dc:language>
  <cp:lastModifiedBy>BPS</cp:lastModifiedBy>
  <dcterms:modified xsi:type="dcterms:W3CDTF">2012-04-12T18:04:17Z</dcterms:modified>
  <cp:revision>7</cp:revision>
  <dc:subject/>
  <dc:title>Instructional Objectives</dc:title>
</cp:coreProperties>
</file>