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EBC8-3931-46F1-822E-436DB31A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E08C-2CCE-4192-AE2E-7B0C0562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698-CFAA-49C6-BD06-F8A559F2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B93C-C3EE-4977-AEA2-56372005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D3A-5274-4D36-A503-C3E03760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FE82-A277-4846-A8B9-822CB939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337-00DA-40C3-A52A-57D77605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3C2D-7DBB-4AC7-B93A-4011F9E5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8CA9-9452-451E-8FBE-430AA23A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19F1-80AC-47E3-A315-92BF59D3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DD8-DFA7-465D-9CFF-82BDEC6B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0DFC-C7BF-40D2-A39A-BC9B7D8C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2623-5023-4AB8-BC32-B792BC463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449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 what students are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When given a stick, be able to beat a dead h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t from course description –which tells what a course is abou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Review the many instructional media resources that are available to classroom tea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s the condition under which the performance is expected to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Using PowerPoint softw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the aid of lecture not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chart of the Periodic Tab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 calculato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ly use conditions when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expected to use something special when perform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A manual, a ruler, a tool, a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prohibited from using something when complet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calculator, notes,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have to perform the task under specia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time restraints, in front of an audience, in a cockp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a list of significant political figures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Given a list of significant political figur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n (Evalu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ribes the level of competence that must be reac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Be able to correctly solve 20 out of 30 multiplication problems in a five minute time fr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on Criter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d (within a time fra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uracy (how correct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( instructor determi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 Tri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, I want you to figure out if this person has achieved __________, Look for this…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other key question to 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ell does the learner have to perform to achieve the object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es students to meet the needs of all learners in the classroom, including those with special needs and the exceptional learn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a curriculum which will meet most of the instructional needs represented in the classro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identify 10 major star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identify 10 major sta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parts to an Instructional 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teria (Assessme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525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s what the learner is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ual – You must be able to observe a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Dance, interview, sing,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overt behavior is expect (identify) use a visible behavior when writing the objective (circ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statement doesn’t have a visible performance it is NOT an obj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1676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verbs describe something you do NOT an internal state of be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) Draw a picture vs. Develop a positive attitude towards classical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20:57:57Z</dcterms:created>
  <dc:creator>CCS Staff</dc:creator>
  <dc:description/>
  <dc:language>en-US</dc:language>
  <cp:lastModifiedBy>BPS</cp:lastModifiedBy>
  <dcterms:modified xsi:type="dcterms:W3CDTF">2012-04-12T18:04:17Z</dcterms:modified>
  <cp:revision>7</cp:revision>
  <dc:subject/>
  <dc:title>Instructional Objectives</dc:title>
</cp:coreProperties>
</file>