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F2DF-354B-4D70-BD7F-E2B239A1F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EB9B-D39E-484D-90BF-AFD652CF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FD70-D95C-4052-B1E9-27120FA57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265B-FD68-4A17-A727-3C075B508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74B3-336D-453F-8FC7-7274BF09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FA9A-BD28-44E3-9993-67981722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EE5B-7B75-4FAF-843F-05D003EA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823D-CD7A-4AEF-96F1-7F12CF6C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2796-6012-471E-AE5A-780D3AC6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4DE3-A082-4BB0-8149-172DF952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B52E-BC4F-4B75-9894-3910316E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078C-9FDE-4E2E-AF03-B3B6B9DA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F2A0-B9D9-4103-A002-B707C864F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96080" cy="4496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cribe what students are expected to be able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When given a stick, be able to beat a dead ho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fferent from course description –which tells what a course is abou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Review the many instructional media resources that are available to classroom teac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s the condition under which the performance is expected to occ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Using PowerPoint softwa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out the aid of lecture not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chart of the Periodic Tabl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 calculator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ly use conditions when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s are expected to use something special when performing a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A manual, a ruler, a tool, a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s are prohibited from using something when completing a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calculator, notes,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s have to perform the task under special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time restraints, in front of an audience, in a cockp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n a list of significant political figures, be able to identify the current cabinet lead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Given a list of significant political figur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be able to identify the current cabinet lead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dentify the composer of a piece of classical music from a list of famous musicia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dentify the composer of a piece of classical music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from a list of famous musicia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erion (Evalu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scribes the level of competence that must be reach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Be able to correctly solve 20 out of 30 multiplication problems in a five minute time fr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mon Criter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ed (within a time fram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uracy (how correct?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ty ( instructor determi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y Gofer Tric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y Gofer, I want you to figure out if this person has achieved __________, Look for this…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other key question to as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well does the learner have to perform to achieve the objecti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dentify the objec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pares students to meet the needs of all learners in the classroom, including those with special needs and the exceptional learn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ign a curriculum which will meet most of the instructional needs represented in the classroo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dentify the criter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a compass, telescope, and an astrological chart be able to identify 10 major stars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dentify the criter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a compass, telescope, and an astrological chart be able to </a:t>
            </a: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identify 10 major sta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 parts to an Instructional Obj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iteria (Assessmen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5257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cribes what the learner is expected to be able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sual – You must be able to observe a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Dance, interview, sing,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overt behavior is expect (identify) use a visible behavior when writing the objective (circ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the statement doesn’t have a visible performance it is NOT an obje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dentify the Objec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able to create a watercolor painting using impressionistic techniq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able to develop an appreciation for abstract 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dentify the Objec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e able to create a watercolor painting using impressionistic techniq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able to develop an appreciation for abstract 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1676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ormance verbs describe something you do NOT an internal state of be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) Draw a picture vs. Develop a positive attitude towards classical mus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oose the performance ver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eci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oose the performance ver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ra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eci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m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9T20:57:57Z</dcterms:created>
  <dc:creator>CCS Staff</dc:creator>
  <dc:description/>
  <dc:language>en-US</dc:language>
  <cp:lastModifiedBy>BPS</cp:lastModifiedBy>
  <dcterms:modified xsi:type="dcterms:W3CDTF">2012-04-12T18:04:17Z</dcterms:modified>
  <cp:revision>7</cp:revision>
  <dc:subject/>
  <dc:title>Instructional Objectives</dc:title>
</cp:coreProperties>
</file>