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FC8-9053-4AB1-82C4-821B77EF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442-446F-4124-9DD1-3C8DCA54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2BC-DB95-4D3F-A7D7-A64CC977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FA3-C293-4264-AEA9-534D0D43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270-4A91-4BEF-9691-EF263F58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101-3CB0-4F5A-A0BA-0D57FC07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62B-FED8-44A3-867F-F9DA37A0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99E-41FF-4B7D-BDF1-0EB1C7F3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CCD-B3DD-4023-9B9F-5D9FDE08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91D-8AE3-4B93-B32A-6A41E13D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F9B-3138-4D9F-BFE4-54E5855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6B2-693F-4812-AECC-D084489E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5F1F-C477-4118-AF0B-E0DDF222E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’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PS</cp:lastModifiedBy>
  <dcterms:modified xsi:type="dcterms:W3CDTF">2012-04-12T18:04:17Z</dcterms:modified>
  <cp:revision>7</cp:revision>
  <dc:subject/>
  <dc:title>Instructional Objectives</dc:title>
</cp:coreProperties>
</file>