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AB1-2110-49B9-9E8D-131B43D4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B219-295C-4825-B49F-4DF78092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3AD8-887A-42A2-9389-9E85C427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88B-0618-402E-AD2F-BC48462E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E117-DC40-4A65-987E-1EBD1FB1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E4A-A2D5-4F32-A79C-AB385481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F80A-06CE-4E6A-AE98-D56796AB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105F-27D8-4C48-82F3-8F808B13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D347-558F-427F-99AA-2C285C01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1DA1-E91F-4868-AD3A-D99358A5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177-21D0-4924-A2C1-E88EED3E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E87F-5E11-4BA7-B18A-44F4ED01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CDF4-0B9F-4EF4-873D-C3E8DCA17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 what students are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When given a stick, be able to beat a dead h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 from course description –which tells what a course is abou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Review the many instructional media resources that are available to classroom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the condition under which the performance is expected to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Using PowerPoint softw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he aid of lecture not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chart of the Periodic Tab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calculat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ly use conditions when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expected to use something special when perform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A manual, a ruler, a tool, a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prohibited from using something when complet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calculator, notes,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have to perform the task under speci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time restraints, in front of an audience, in a cockp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a list of significant political figures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Given a list of significant political figur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n (Evalu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s the level of competence that must be reac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Be able to correctly solve 20 out of 30 multiplication problems in a five minute time fr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on Criter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d (within a time fra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uracy (how correct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( instructor determi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 Tri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, I want you to figure out if this person has achieved __________, Look for this…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other key question to 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ell does the learner have to perform to achieve the object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s students to meet the needs of all learners in the classroom, including those with special needs and the exceptional lear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a curriculum which will meet most of the instructional needs represented in the classro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identify 10 major star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identify 10 major sta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arts to an Instructional 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eria (Assessme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525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s what the learner is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ual – You must be able to observe a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Dance, interview, sing,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overt behavior is expect (identify) use a visible behavior when writing the objective (circ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statement doesn’t have a visible performance it is NOT an obj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1676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verbs describe something you do NOT an internal state of be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) Draw a picture vs. Develop a positive attitude towards classical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0:57:57Z</dcterms:created>
  <dc:creator>CCS Staff</dc:creator>
  <dc:description/>
  <dc:language>en-US</dc:language>
  <cp:lastModifiedBy>BPS</cp:lastModifiedBy>
  <dcterms:modified xsi:type="dcterms:W3CDTF">2012-04-12T18:04:17Z</dcterms:modified>
  <cp:revision>7</cp:revision>
  <dc:subject/>
  <dc:title>Instructional Objectives</dc:title>
</cp:coreProperties>
</file>